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67F4-E4FE-451C-8252-3C443CD790F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805A-E18E-4056-A58C-5F24DDFD057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7889-427B-4BE8-B1DD-96A117FDA4E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F1D4-95D0-46DE-B4D2-C993632630A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3398-4C1F-4E08-AE21-678A25E0501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F156-1259-4C3D-955D-DA4CE3C5B1D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E88D-595C-41ED-AD9E-79B0A82DFCB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430F-5397-4FFA-B628-F60539B2BEB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24EE-D2E1-43D1-9B13-ECD1E05269E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C4B7-3353-43F7-8D82-D7000E8163F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D98D-5BBB-4F5D-94F8-1A1DAEDFAB9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C543-C376-4CAD-8DC3-7413E433782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6B85-C2E8-4557-9EE9-302691E026C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FB05-65B7-4C49-A893-DE00CDAD67B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FC94-5EC3-420A-87A8-CD59174A8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3EAF-40C3-4D7C-A9BA-7BAFE04B4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4671-7720-436D-808F-0CC0DBBC0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BEB3-8C95-4098-8A22-08307C602B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E86D-4866-442A-AF91-31248394CA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929E-EA83-4B06-922A-A89FF42A7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CBC0-B5F2-4812-9306-B55BC5FED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6206-EB3D-41A6-A449-478F2597F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7CC4-28BE-47F4-A8B6-4AC7ECD20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C4A9-0FB6-48AB-8C63-34175F018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0F16-B5F2-4CEF-BF45-E065A5623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243A-A9A9-4DF0-BAA8-1BF9D152B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8B19-07EE-43D7-8274-8C7F57743BF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용 계획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’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업로드할 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05T01:20:08Z</dcterms:modified>
  <cp:revision>96</cp:revision>
  <dc:subject/>
  <dc:title>2006년도 식품의약품안전청 공개발표 선정평가    ℹ 사 업 명 :   ℹ 과 제 명 :   ℹ 연 구 비 :   ℹ 신청기관 :   ℹ 주관연구책임자 :</dc:title>
</cp:coreProperties>
</file>